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BAB-5B43-4B4A-AE93-D43F2554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A32-E4C7-40C2-8337-07B80643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BD8-712C-4991-A9B2-B578515F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92F-6949-4B3F-AB5F-A944B2DE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F00-E49D-47BC-A799-186F7E83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9FC-42A5-4873-A88F-A6A1814F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AA9-2A38-4DBC-A76D-0FC6ED04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886-80E6-433F-B1DC-FDC9C771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529-9C9A-44F1-A856-165AA4E0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4AC-A369-485F-8367-7D27D981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3B10-4BB8-461C-80D1-BE51F7B3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657-016C-49CF-970D-0286795D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210E-91E9-4418-BBF9-347699EB01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06520" y="4513320"/>
            <a:ext cx="8704080" cy="19335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1785960" y="600084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Гагарин и С.П. Короле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642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508720" y="1916280"/>
            <a:ext cx="309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женщина-космонавт  Валентина Тере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26000" cy="4280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428840" y="55008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Ю.Гагарин и В. Терешк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23640" y="428760"/>
            <a:ext cx="83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женщина, вышедшая в открытый 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ветлана Савиц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614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43400" cy="5359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857840" y="642960"/>
            <a:ext cx="3857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ГАРИН, ЮРИЙ АЛЕКСЕЕВИЧ (1934–1968), советский летчик-космонавт, первый человек, совершивший орбитальный космический по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72000" cy="464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2933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216400" y="522936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 Гагарин и его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95280" y="2858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марта 1934 г. в селе Клушино ( Смоленская область) родился Ю.А. Гаг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76640" cy="344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429000" cy="378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85840" y="457200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ратовский индустриальный техн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219640" y="9079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гарин - курсант  Саратовского аэрокл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684360" y="155736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апреля 1961 Ю.А.Гагарин на космическом корабле «Восток», созданном в опытно-конструкторском бюро С.П.Королева, стартовал с космодрома Байконур и совершил первый космический полет, облетев земной шар за 108 минут и благополучно вернувшись на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72320" cy="5791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приземления  Ю.А. Гаг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4:40:37Z</dcterms:created>
  <dc:creator>HardyWf</dc:creator>
  <dc:description/>
  <dc:language>en-US</dc:language>
  <cp:lastModifiedBy>Name</cp:lastModifiedBy>
  <dcterms:modified xsi:type="dcterms:W3CDTF">2010-09-23T12:06:21Z</dcterms:modified>
  <cp:revision>3</cp:revision>
  <dc:subject/>
  <dc:title>Первые космонав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6000000000001024140</vt:lpwstr>
  </property>
</Properties>
</file>